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07D-5F23-41E8-9A6F-A09F5135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BAE-BF56-4A66-9E72-A3DDF7AD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C4A-A2AC-46C6-B622-E44F385C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B1C-6C1F-46DF-B20F-BBD623AB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D1BD-85F9-484C-A71E-A42CFD56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C189-75FB-4001-8615-A6EFFB42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C6A1-7663-49AF-9D24-52256EB7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2B97-EF87-46EF-81FC-3B0453C9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5D49-F072-480D-943C-DF2C4940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1C7D-BFF8-48F9-9362-008BE773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7151-FE5C-4459-80F6-979AE731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7AB-60D9-4BD0-B1E0-45AD5965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26F-3D50-4340-9266-82CFCDFA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882E-5AC2-4D9D-962E-E63E377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4C35-7CAD-49E4-9371-4913E545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E5C3-47AD-4EFB-9805-A153065E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BB77-742A-4D8F-B60F-CA389376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46C-19F7-4D45-8494-608303B8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E27-E3C2-450E-A7A5-2E1DF7B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AE1-67E5-44CD-9FD8-E68C274E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367-5E3D-4261-BE11-D44BCAEA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C45-49B9-4EB0-9812-0F402B08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DF2-8E37-406C-AA89-DD5B3F7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6AE-B3BD-4C2C-9B11-87FB1C4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B255-E469-4C59-BCC3-B966BBA69F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E285-C55C-48C6-93E6-2ABEFEA909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roduction to Gene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. Lazza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mina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n even if other versions are present ex: Yy and YY both appear yellow no ble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ated with a capital l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more common but not al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4724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een if other versions are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if homozygous recessive y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ated with a lower case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85000" y="3946680"/>
            <a:ext cx="270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cess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oty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make-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lleles you h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mozyg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have the same alleles for a particular gene  example: YY or y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terozygou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have different alleles for a particular gen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Y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eneoty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2515680"/>
            <a:ext cx="84564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ppea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 we se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Y or Yy = appears yellow (so phenotype = yell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y = g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is Yy yellow not gre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ed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assing characteristics from parent to offspring (childr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ertilization-male and female gametes combine to form new offspr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ollination – (in plants) pollen grains fertilize female game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92160" y="1849320"/>
            <a:ext cx="4856400" cy="38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 of hered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gor Men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harge of monastery garde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her of gene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ied characteristics of peas and how characteristics are passed 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mally peas self –pollinate = males fertilize female’s egg of sam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ould cause cross-polination = offspring (seeds) of 2 different par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ied 7 characteristics – study a few or else too man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903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ndel’s Finding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his observations, Mendel decided that there must be two factors controlling each trait. He concluded that there w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min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(A) an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cess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) form of each trait and that presence of the dominant form masked the recessive form. Each of these forms is now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le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del’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w of segreg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ays that a pair of factors is separated or segregated during the formation of gametes (meiosi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del’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w of independent assort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ays that factors for different traits are distributed to gametes independently from one an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 eye color or hair color or h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s or piece of DNA that determines a characteristic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 a piece of DNA codes for a protein or product which determines these characteri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e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 forms or versions of a g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blue, brown, green eye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Gene: height; alleles = tall shor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 have 2 alleles for each gene     (1 on each chromoso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metes have 1 allele because haplo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Y = yellow and y = green since same gene &amp; (only 2 alleles) lets use the same let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8T14:00:24Z</dcterms:created>
  <dc:creator>Melanie Borun</dc:creator>
  <dc:description/>
  <dc:language>en-US</dc:language>
  <cp:lastModifiedBy>Tricia</cp:lastModifiedBy>
  <dcterms:modified xsi:type="dcterms:W3CDTF">2007-02-16T14:12:42Z</dcterms:modified>
  <cp:revision>11</cp:revision>
  <dc:subject/>
  <dc:title>No Slide Title</dc:title>
</cp:coreProperties>
</file>